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4A880-B0F4-4704-AA38-96A72765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ABD5A-5D5B-4B69-A5F1-52D60053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A580D-84EF-4226-AC24-DFB1324B2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78814-9FFA-40D5-98CF-A72BAFD6D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B2C9-2360-4C8F-A5D1-E1B4184A5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20FB-FD56-48BB-982F-B582FB5B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C186-DB74-45D2-A6A3-5DB51A1C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1F20-7E1B-4DC7-B794-857B36D5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AB05-84FA-47F7-8986-5DCCC4AF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CA32-3B02-48A5-B2EB-B2A037D8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FA1B-FDD5-41DC-A68D-938AA088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7EC9F-3E83-4EB3-B887-0E8C39C6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64C7-801D-4FCB-81A4-A81FA17E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7F1A-6BDE-44D4-B920-2770EC59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41AB-3CD1-4D20-82DC-85D2B840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E84C-A1A3-48D3-A694-51A10FF84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189D-CB7E-4C97-B5C4-A5609187E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D6168-5859-47C4-B524-CAD3CE57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8BBF0-6D28-4763-B8DA-C2BDD30F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E6921-CA66-41F4-A08C-3D9F4FE7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3DA96-0728-44F8-858D-26B61428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22793-F377-4CF5-9B6B-7AA26727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F97F6-B489-4D0C-890F-0F7AA01A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3E4C4-7FAB-491D-8D66-9760C62D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8D76-800B-46C3-A663-160600F322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0F8F-7690-48AF-88C8-CC2D1E7DE6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tmosphere.mpg.de/media/archive/3452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hapter 5 Biogeochemical Cycl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124080" y="990720"/>
            <a:ext cx="640080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ake Washington Case Stud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[Map of Washington]"/>
          <p:cNvPicPr/>
          <p:nvPr/>
        </p:nvPicPr>
        <p:blipFill>
          <a:blip r:embed="rId1"/>
          <a:stretch/>
        </p:blipFill>
        <p:spPr>
          <a:xfrm>
            <a:off x="1447920" y="2209680"/>
            <a:ext cx="601956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822960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itrogen cycle key steps!!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st in atmosphere as 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n in the soi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 Nitrogen fixation: fixes 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a form plants can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Other bacteria convert ammonia in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itrat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 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stem-tubers-rhizomes"/>
          <p:cNvPicPr/>
          <p:nvPr/>
        </p:nvPicPr>
        <p:blipFill>
          <a:blip r:embed="rId1"/>
          <a:stretch/>
        </p:blipFill>
        <p:spPr>
          <a:xfrm>
            <a:off x="6392880" y="3886200"/>
            <a:ext cx="275112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o living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 Plants absorb nitrates and ammonia b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im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plant roo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3367080"/>
            <a:ext cx="4496040" cy="33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into soil agai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into the atm 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fr_chapter5_figure1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Line 6"/>
          <p:cNvSpPr/>
          <p:nvPr/>
        </p:nvSpPr>
        <p:spPr>
          <a:xfrm>
            <a:off x="457200" y="3657600"/>
            <a:ext cx="22860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biogeochemical cyc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 a chem takes through air, water, soil, orgs. and back to air or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taken to cycle va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eous elements fas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gaseous s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drologic Cycle: Ch 19 in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Image of hydrologic cycle"/>
          <p:cNvPicPr/>
          <p:nvPr/>
        </p:nvPicPr>
        <p:blipFill>
          <a:blip r:embed="rId1"/>
          <a:stretch/>
        </p:blipFill>
        <p:spPr>
          <a:xfrm>
            <a:off x="304920" y="1295280"/>
            <a:ext cx="85341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Global 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we find 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it have an atm st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ight carbon cycle be thrown out of bal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if out of bal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arbo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seous (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  Most important organic comp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sea-carbon-cycle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125" name="Line 7"/>
          <p:cNvSpPr/>
          <p:nvPr/>
        </p:nvSpPr>
        <p:spPr>
          <a:xfrm>
            <a:off x="533520" y="2514600"/>
            <a:ext cx="533160" cy="685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 flipH="1">
            <a:off x="5867280" y="3124080"/>
            <a:ext cx="990720" cy="5335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troge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we find 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it have an atm st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ight the nitrogen cycle be thrown out of bal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if out of bal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403848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itrogen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most of the atm (about 8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Lightning along Oswalt Road near Overbrook, OK, 28 Mar 0"/>
          <p:cNvPicPr/>
          <p:nvPr/>
        </p:nvPicPr>
        <p:blipFill>
          <a:blip r:embed="rId1"/>
          <a:stretch/>
        </p:blipFill>
        <p:spPr>
          <a:xfrm>
            <a:off x="4495680" y="3962520"/>
            <a:ext cx="4245120" cy="2895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Bugs"/>
          <p:cNvPicPr/>
          <p:nvPr/>
        </p:nvPicPr>
        <p:blipFill>
          <a:blip r:embed="rId2"/>
          <a:stretch/>
        </p:blipFill>
        <p:spPr>
          <a:xfrm>
            <a:off x="4495680" y="762120"/>
            <a:ext cx="4191120" cy="29844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3"/>
          <p:cNvSpPr/>
          <p:nvPr/>
        </p:nvSpPr>
        <p:spPr>
          <a:xfrm>
            <a:off x="6399720" y="22860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0 m. tons annu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6629400" y="4038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 m. tons annu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5:00:23Z</dcterms:created>
  <dc:creator>tosborne</dc:creator>
  <dc:description/>
  <dc:language>en-US</dc:language>
  <cp:lastModifiedBy>infosys</cp:lastModifiedBy>
  <dcterms:modified xsi:type="dcterms:W3CDTF">2015-09-02T19:26:29Z</dcterms:modified>
  <cp:revision>46</cp:revision>
  <dc:subject/>
  <dc:title>Chapter 4 Biogeochemical Cycles</dc:title>
</cp:coreProperties>
</file>